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401292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90720" y="764640"/>
            <a:ext cx="5106960" cy="38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401292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A50843-2160-4B87-820B-57943F6B23C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131994-CCFB-489A-B344-43D854D3266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E92D13-3340-4B9B-AAC1-F98666DCA98E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530A7F-9EB4-41B9-9873-B2DE1318B07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0A3BEB-91A0-4C51-9590-46BF4B860FAD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4AD345-9E44-4F8F-B831-015F50625DD0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80305D-E8E0-4925-B98E-6C065F60C8F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9B8CDE-52A8-4107-882D-78F3360E0CE0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A69983-8E83-43D3-9B79-AD28AC89793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BC2065-D75C-4282-999A-86D60809568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83EB2D-7EDE-42D4-A6D0-F0AAB34BFE4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75178B-322C-47B4-B2D4-AE4D4FD7B6D8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58C7E4-8392-4AB0-9D35-43811C9E2AE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A7A816-2742-4215-9129-153F0556BB3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541C91-83B0-4665-9E43-C075B152F78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408F8B-E5F8-44D0-938A-B767BB6C8DC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CA73-FE8C-4523-87F7-9CC77E392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324B-04DC-4546-8393-1C5DCA66F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0780-20E6-4440-90F4-FDEA6FA5C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03BE-38AC-4AF1-A023-43A2C5093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D16B-D862-4C80-B6B7-A53EB9898E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D63F-699B-4869-9BF7-34B4D0FCAB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689A-731A-4EF9-A2EC-0F550D756D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C6E9A-F34F-4082-AE47-4FA6870B97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5F49A-3E26-4613-9EE7-87A8FC2C9F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4215-D046-47B2-BF73-01BC13FA2A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59C7-F44F-4DF5-9D2E-9F89F3C08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B8D2-2DF0-4683-82B1-B3F581865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1657-4AB1-420D-87C3-276BD31966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3E05-77E2-4717-8549-6DC4179E11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F649-80C0-4FE4-A9D9-7AC0714A9C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D157F-4668-4AB8-805A-6BA9540FC9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768E-6722-4B59-975A-E01F695E11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330-5385-4D5F-81F5-BFE4580BF0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72D-D1EC-4A81-B607-F877C621CC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BE3-DD7D-4B32-B98C-0504D7EDBB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9BE-34CE-4D23-B973-549C1D5154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C50-EDBA-4AF9-8A09-0D002A22B9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28FA-32D8-45DC-A4F5-A11C8E486F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527-A378-4486-A9F5-49CC3062D5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EE5-411B-4E88-B56B-B80A2FA961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64B-BF70-46D6-81CD-E91E7D663C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0BE-1D29-413E-AE8C-3100F85CFB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DBF-5A26-4AA6-ADA8-0235FC8640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668-BBB4-4D5C-A3F3-FE681C8803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6A0-BD91-4243-90B8-C5C1BAF9FF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F05E5-2D3D-4F50-A480-79C3628C50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F975B-4DA5-4398-B98D-970097959F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949AD-B7D6-4EC4-8673-ECB4B4845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1796-AD53-4F4B-8701-BE57DB13A5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E9814-9489-40CA-9443-52A002EB75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A0487-8265-4652-96E8-E6D44D121F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86459-7A8F-4F59-9537-EA781EE930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244B0-4319-4DC0-BA32-7808E7F13B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76007-5E45-44FC-A3A1-2CCD7E95BE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CA40B-CF43-4723-809D-FE1D227098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16893-D127-4A9E-A929-91CB541C99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F442C-E497-4C65-B63A-9FA3D9367F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3E2B0-31F5-4440-9FA6-6FB7A696B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E14A-B5CC-4205-94A5-A6F5C4B62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071A-C7F0-40A3-9E5F-4FA54CAC5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8531-7C7D-45C9-B769-41A98B83E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0E0E-0031-4258-8AB0-374908DFE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35CF-D3F1-422B-BD1B-DEEF866BA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ABA6-7563-44FF-A35B-F4A946CFC554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FC19-F1F1-46F5-955A-E62C9B26A52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6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788B-4496-4F70-A986-D23AD6777A6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59738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F856-1776-46A7-9522-995FC7F86AF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C95C-DBC2-43BF-B56D-1B9E6DA5421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F482-CEC5-46C0-8026-6F457222722C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112400"/>
            <a:ext cx="738036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年モデル審査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のポイント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077920" y="2728800"/>
            <a:ext cx="5078520" cy="3767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エクセレント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8D82-4273-4440-B329-094A4C002D7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038320" y="996840"/>
            <a:ext cx="5181480" cy="386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04840" y="2192400"/>
            <a:ext cx="4224240" cy="315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4681440" y="2187720"/>
            <a:ext cx="4227480" cy="3147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394920" y="24433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281840" y="12985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728840" y="2401920"/>
            <a:ext cx="82368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754440" y="5857920"/>
            <a:ext cx="169056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要素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0840" y="2923920"/>
            <a:ext cx="72961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のポイント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F277-BD56-4993-AEC8-DB2F42727E5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振り返り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アンケート結果か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審査結果の公開や、審査結果に関するより多くのフィードバックを希望する声が多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他チームとの相対的な位置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より多くのコメント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モデル審査の内容や基準に対する意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性能モデルが実験レポートに傾倒し過ぎ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技術教育に対する要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もっと初心者向けの内容を増やして欲し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工数の激増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参加チーム、モデル密度がそれぞれ増す中、モデル審査にかかる時間も年々増大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この方法で、より詳細なフィードバックや審査内容の追加は不可能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0A12-38DD-49BA-811B-4901B75CE3DF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全員参加の「いいね！」型モデル審査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の審査結果は参加チームへの一方的な通知表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する側、される側という意識が、みんなで大会を作っていくというロボコンのあり方を希薄化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いまのフィードバックだけでは、審査委員個々の思いやコメントが伝えきれな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「審査委員会」だけでなく、参加チームも審査に参加することで公平感・納得感を高めた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参加チームからの投票を受け付ける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最終評価は、審査委員会の評価と参加チームの投票結果により決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委員それぞれの評価や、一押しモデルも積極的に公開することで審査委員の「顔が見える」審査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まず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のみでの採用を検討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E3D1-A97E-4EB1-A0DF-9CC4F62B29C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リング初心者にフォーカスした教育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これまでの教育資料は、初心者～経験者までを広くカバーすることを目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、実装、プロセスまで及び、すべての習得は困難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とくに、初心者に対するハードルが高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による「うれしさ」よりも「たいへんさ」が先行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年は、スキルアップの前に、まずは「モデリング」の価値を実感してもらうように方向転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ルを「作る」ことは大切だが、まず最初は「使う」のが先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すでに用意された「モデル」をつかって、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ロボコン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Hello world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（＝ライントレース）」を作ることにトライ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</a:rPr>
              <a:t>「モデルを使うとこんなに開発が楽なんだ！」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総合的な教材として、今までの教材の提供も併用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実際の進め方（ツールの活用、時間配分等）は今後検討予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09C3-D7F4-405C-B80C-74E392E29A4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もよろしくお願いします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BA40-5C4D-4575-9210-32E99D9C019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目次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ル審査について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今年のポイン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0F75-CAA1-451A-8BBC-F57FBAD644FF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モデル審査について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D9A0-2569-42C8-A2E7-F4CD05A1456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モデル審査基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F58E-9B9E-47DF-A2E0-7432892EB92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グループ化 16"/>
          <p:cNvGrpSpPr/>
          <p:nvPr/>
        </p:nvGrpSpPr>
        <p:grpSpPr>
          <a:xfrm>
            <a:off x="204840" y="1608120"/>
            <a:ext cx="4189320" cy="1623960"/>
            <a:chOff x="204840" y="1608120"/>
            <a:chExt cx="4189320" cy="1623960"/>
          </a:xfrm>
        </p:grpSpPr>
        <p:pic>
          <p:nvPicPr>
            <p:cNvPr id="187" name="コンテンツ プレースホルダ 17" descr=""/>
            <p:cNvPicPr/>
            <p:nvPr/>
          </p:nvPicPr>
          <p:blipFill>
            <a:blip r:embed="rId1"/>
            <a:stretch/>
          </p:blipFill>
          <p:spPr>
            <a:xfrm>
              <a:off x="347400" y="1608120"/>
              <a:ext cx="398088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角丸四角形 7"/>
            <p:cNvSpPr/>
            <p:nvPr/>
          </p:nvSpPr>
          <p:spPr>
            <a:xfrm>
              <a:off x="204840" y="1636920"/>
              <a:ext cx="4189320" cy="1544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18"/>
          <p:cNvGrpSpPr/>
          <p:nvPr/>
        </p:nvGrpSpPr>
        <p:grpSpPr>
          <a:xfrm>
            <a:off x="193680" y="3429000"/>
            <a:ext cx="4159080" cy="1849320"/>
            <a:chOff x="193680" y="3429000"/>
            <a:chExt cx="4159080" cy="1849320"/>
          </a:xfrm>
        </p:grpSpPr>
        <p:pic>
          <p:nvPicPr>
            <p:cNvPr id="190" name="コンテンツ プレースホルダ 17" descr=""/>
            <p:cNvPicPr/>
            <p:nvPr/>
          </p:nvPicPr>
          <p:blipFill>
            <a:blip r:embed="rId2"/>
            <a:stretch/>
          </p:blipFill>
          <p:spPr>
            <a:xfrm>
              <a:off x="383760" y="3431880"/>
              <a:ext cx="391968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角丸四角形 8"/>
            <p:cNvSpPr/>
            <p:nvPr/>
          </p:nvSpPr>
          <p:spPr>
            <a:xfrm>
              <a:off x="193680" y="3429000"/>
              <a:ext cx="4159080" cy="181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グループ化 17"/>
          <p:cNvGrpSpPr/>
          <p:nvPr/>
        </p:nvGrpSpPr>
        <p:grpSpPr>
          <a:xfrm>
            <a:off x="4535640" y="1596960"/>
            <a:ext cx="4376520" cy="4818240"/>
            <a:chOff x="4535640" y="1596960"/>
            <a:chExt cx="4376520" cy="4818240"/>
          </a:xfrm>
        </p:grpSpPr>
        <p:pic>
          <p:nvPicPr>
            <p:cNvPr id="193" name="コンテンツ プレースホルダ 17" descr=""/>
            <p:cNvPicPr/>
            <p:nvPr/>
          </p:nvPicPr>
          <p:blipFill>
            <a:blip r:embed="rId3"/>
            <a:stretch/>
          </p:blipFill>
          <p:spPr>
            <a:xfrm>
              <a:off x="4535640" y="1901880"/>
              <a:ext cx="41882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角丸四角形 9"/>
            <p:cNvSpPr/>
            <p:nvPr/>
          </p:nvSpPr>
          <p:spPr>
            <a:xfrm>
              <a:off x="4547520" y="1596960"/>
              <a:ext cx="4364640" cy="4818240"/>
            </a:xfrm>
            <a:custGeom>
              <a:avLst/>
              <a:gdLst>
                <a:gd name="textAreaLeft" fmla="*/ 212760 w 4364640"/>
                <a:gd name="textAreaRight" fmla="*/ 4151880 w 4364640"/>
                <a:gd name="textAreaTop" fmla="*/ 212760 h 4818240"/>
                <a:gd name="textAreaBottom" fmla="*/ 4605480 h 4818240"/>
              </a:gdLst>
              <a:ahLst/>
              <a:rect l="textAreaLeft" t="textAreaTop" r="textAreaRight" b="textAreaBottom"/>
              <a:pathLst>
                <a:path w="21600" h="23845">
                  <a:moveTo>
                    <a:pt x="3600" y="0"/>
                  </a:moveTo>
                  <a:arcTo wR="3600" hR="3600" stAng="16200000" swAng="-5400000"/>
                  <a:lnTo>
                    <a:pt x="0" y="20245"/>
                  </a:lnTo>
                  <a:arcTo wR="3600" hR="3600" stAng="10800000" swAng="-5400000"/>
                  <a:lnTo>
                    <a:pt x="18000" y="238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グループ化 19"/>
          <p:cNvGrpSpPr/>
          <p:nvPr/>
        </p:nvGrpSpPr>
        <p:grpSpPr>
          <a:xfrm>
            <a:off x="219240" y="4538520"/>
            <a:ext cx="4160520" cy="1847880"/>
            <a:chOff x="219240" y="4538520"/>
            <a:chExt cx="4160520" cy="1847880"/>
          </a:xfrm>
        </p:grpSpPr>
        <p:sp>
          <p:nvSpPr>
            <p:cNvPr id="196" name="角丸四角形 10"/>
            <p:cNvSpPr/>
            <p:nvPr/>
          </p:nvSpPr>
          <p:spPr>
            <a:xfrm>
              <a:off x="219240" y="5539320"/>
              <a:ext cx="4160520" cy="800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コンテンツ プレースホルダ 17" descr=""/>
            <p:cNvPicPr/>
            <p:nvPr/>
          </p:nvPicPr>
          <p:blipFill>
            <a:blip r:embed="rId4"/>
            <a:stretch/>
          </p:blipFill>
          <p:spPr>
            <a:xfrm>
              <a:off x="365760" y="4538520"/>
              <a:ext cx="3864600" cy="18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テキスト ボックス 12"/>
          <p:cNvSpPr/>
          <p:nvPr/>
        </p:nvSpPr>
        <p:spPr>
          <a:xfrm>
            <a:off x="589320" y="345600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製品やソフトウェ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求められるもの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何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3"/>
          <p:cNvSpPr/>
          <p:nvPr/>
        </p:nvSpPr>
        <p:spPr>
          <a:xfrm>
            <a:off x="5601240" y="1830240"/>
            <a:ext cx="210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要求を実現するために必要な動作内容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それを実現するための仕組み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複雑にならない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4"/>
          <p:cNvSpPr/>
          <p:nvPr/>
        </p:nvSpPr>
        <p:spPr>
          <a:xfrm>
            <a:off x="6535080" y="460368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性能向上に必要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技術や戦略が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15"/>
          <p:cNvSpPr/>
          <p:nvPr/>
        </p:nvSpPr>
        <p:spPr>
          <a:xfrm>
            <a:off x="7067880" y="58212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各モデルの内容が、相互に確認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追跡可能で一貫性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コンテンツ プレースホルダ 2"/>
          <p:cNvSpPr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大きく、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カテゴリから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0"/>
          <p:cNvSpPr/>
          <p:nvPr/>
        </p:nvSpPr>
        <p:spPr>
          <a:xfrm>
            <a:off x="825840" y="2606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わかりやす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書け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21"/>
          <p:cNvSpPr/>
          <p:nvPr/>
        </p:nvSpPr>
        <p:spPr>
          <a:xfrm>
            <a:off x="2754720" y="5581800"/>
            <a:ext cx="15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新しい試みや日常の開発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出来ないことへのチャレン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モデル審査の方法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基準の各項目を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レベルで評価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各項目の評価レベルを点数化し、さらに重みを加味して、最終評価点を算出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評価点に応じて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　までの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段階のレベルを付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0574-E656-45B3-9CF3-37C2B3E8D02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各チームへのフィードバック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設計面と性能面に分けて、「良かった点」「気になった点」をそれぞれコメントとして記述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17AA-717B-4DDB-B46F-8663F4ACA7F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870120" y="2036880"/>
            <a:ext cx="77198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のモデル審査結果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D6CB-D07C-449A-8B4A-3F98A12FAC2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941400"/>
            <a:ext cx="5861160" cy="352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11520" y="3370320"/>
            <a:ext cx="5427720" cy="3112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6051600" y="2395440"/>
            <a:ext cx="8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7"/>
          <p:cNvSpPr/>
          <p:nvPr/>
        </p:nvSpPr>
        <p:spPr>
          <a:xfrm>
            <a:off x="5247720" y="154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ほぼすべてに渡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程度高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追加課題については、大きな差が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8"/>
          <p:cNvSpPr/>
          <p:nvPr/>
        </p:nvSpPr>
        <p:spPr>
          <a:xfrm>
            <a:off x="1819440" y="510696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参加チームが多く、開催回数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多い地区ほど評価が高い傾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こ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0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間のモデル進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B968-EC59-413A-99D3-28128961B252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4" descr="modelcocept.jpg"/>
          <p:cNvPicPr/>
          <p:nvPr/>
        </p:nvPicPr>
        <p:blipFill>
          <a:blip r:embed="rId1"/>
          <a:stretch/>
        </p:blipFill>
        <p:spPr>
          <a:xfrm>
            <a:off x="168120" y="955800"/>
            <a:ext cx="8620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04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優勝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EB1B-6736-476B-9F96-9B1B0A308FE4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660760" y="1332000"/>
            <a:ext cx="3944880" cy="31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22400" y="3514680"/>
            <a:ext cx="4244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226" name="グループ化 6"/>
          <p:cNvGrpSpPr/>
          <p:nvPr/>
        </p:nvGrpSpPr>
        <p:grpSpPr>
          <a:xfrm>
            <a:off x="4494240" y="3603600"/>
            <a:ext cx="4425840" cy="2577960"/>
            <a:chOff x="4494240" y="3603600"/>
            <a:chExt cx="4425840" cy="2577960"/>
          </a:xfrm>
        </p:grpSpPr>
        <p:pic>
          <p:nvPicPr>
            <p:cNvPr id="227" name="Picture 4" descr=""/>
            <p:cNvPicPr/>
            <p:nvPr/>
          </p:nvPicPr>
          <p:blipFill>
            <a:blip r:embed="rId3"/>
            <a:stretch/>
          </p:blipFill>
          <p:spPr>
            <a:xfrm>
              <a:off x="4494240" y="3603600"/>
              <a:ext cx="24984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7156440" y="3891600"/>
              <a:ext cx="1763640" cy="21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8"/>
          <p:cNvSpPr/>
          <p:nvPr/>
        </p:nvSpPr>
        <p:spPr>
          <a:xfrm>
            <a:off x="626760" y="387684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281840" y="169380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6680" y="3479760"/>
            <a:ext cx="82368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dcterms:modified xsi:type="dcterms:W3CDTF">2012-02-17T09:49:45Z</dcterms:modified>
  <cp:revision>414</cp:revision>
  <dc:subject/>
  <dc:title>ETロボコン公式教材 （その１） モデルの描き方トレーニング</dc:title>
</cp:coreProperties>
</file>